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0C4-F911-4ACA-927B-032B64F1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112-B40B-4BF4-BDFF-D6F78317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19018-1F94-4476-B965-28FB78DE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D9077-25C0-4B17-8D5A-529C04F5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DB333-252C-484A-BF33-47C104C8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E17B1-36AD-4952-888F-84CF94C0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1007E-B2B0-41B6-956C-CF2E7B7E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7D7EF-0F2A-4F41-8D76-6071695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9252D-B74B-443C-A959-D1F5AD4B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7ADA8-E59D-4990-AA93-A3F02096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69023-D276-4821-B875-9191B331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EA0BF-575A-4AFF-9DE3-6E5017A7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59D-250A-4688-A186-52B1922C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7C6A6-9BF8-4A3F-B0D8-531D7FCF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F8E46-5EBE-425E-BAEA-2CD8F4A7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B8309-C198-48FB-8844-4400F387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676CB-8FBD-4936-99E5-08509262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62D10-1034-475E-B82C-92831AB2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0FD0B-9959-4D91-8359-E54FF745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15AA2-8A0A-430A-B507-1C0D3B43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F81F2-2744-4E43-8879-F7BEA18A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6EA9C-7C0B-49A6-B569-BC2DEE9A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BE665-F9B5-4561-95B7-AB315E39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ECF-C635-4063-B4B3-B03C7D2B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22581-530D-4D21-AB27-5EE180C5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C6956-35D8-425C-BDC5-6614C814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69D3A-EC0F-4942-BFA9-B142F840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64E14-9E01-4416-97B1-561B48EF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03B2D-23EA-41E0-973C-56F1868F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C6F70-D905-46DF-9542-2E3187A7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E25EF-C838-4F38-AC37-99D137D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5E204-7B92-462F-B7F2-2977FDAB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908BE-1440-4766-A577-B3AC91C9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88FA2-68A9-4780-8CCE-A32B99EC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3668-DA61-41A9-959E-89B82B7A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3493E-4FE9-43D8-B4E6-E77086E4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75BA4-E7CC-4648-B582-1816390D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98998-22AA-4125-9176-1411A02B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44763-B1DE-4C15-9FD5-05454042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9C366-8E2F-4B3A-840F-9CA13720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532FC-4979-4CF9-AFF0-A460345F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F7C45-05C8-4BD4-9D1A-D34CDBF1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43FDC-F21C-4AFA-949B-A4A388BF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8AFBA-7073-4000-A47B-815CDFD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6F365-96D4-4614-9963-FC82DAE4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8F77-CD87-4ECF-A5DB-B8D65A4E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9A646-8CD2-4364-A66A-D5A5CAAD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C7CD4-9999-44B1-906A-1EADD4C4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C4E49-E837-490F-BDC5-C27825D5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A3BC5-A12F-418E-AABD-C55929C3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E9EFF-A694-4BEA-BE27-B3BAAEF1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5C8FC-10D7-4F27-96E1-121F9DDF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730E4-47C7-426C-9D4B-7FDE6786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79917-45C6-4E04-B1A3-7A42565A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AF124-33CD-4228-9840-708A7C3A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4C296-A83C-41EB-AE64-B385013A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5BF6-6863-4967-9EA9-36FD893B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FCE59-3ABD-422F-B7D5-9CBFEF51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EA3EC-49E1-4D3B-9B92-ECCDE9B6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0084C-5BA2-4078-8504-BF3D005B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4FFF7-3EC3-4186-9355-B90EC23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0613D-EB4F-42D7-9593-B6F8955D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A1D3E-D13D-4C69-AA7D-0D738DA6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F8302-28EB-4793-A4F0-F9A5F973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98CC39-E54A-4D37-BB34-36684C25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B318E1-E6E2-4534-89D6-C3593CAE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3AE49-EEF4-4FC8-97AF-3082DD74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2253-DF93-43D0-BA12-84E6ECCA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5670A-F1C6-4BAD-9050-70209D60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03A7E-10D9-4236-B542-87759CF2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10A56-3A86-4F81-B45C-57563B64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6A4E7E-D966-4B77-A8D5-F3AACBA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D5080-821D-4A35-A875-FCB67F52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4BEFD-1034-4EC4-A7EF-D377C8AD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88844-A143-4592-B69F-53FA9B4C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7113F-9A32-4CF0-A0B5-DDC9AF74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138A0-ACF7-4783-8DE8-660D087B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00217-CE06-47BB-8B77-E34B905E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0939-FDB3-4D0D-9A6A-B19B4165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849F5-1F65-438B-9896-745BBEA8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6FAFCB-5EA3-43A6-BF90-202BEE75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BDF65-B061-42C5-8BC3-D141B8BE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AF0E3-8928-4713-9567-E077CAF7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98205B-DE25-487B-8B94-CCADAAC5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C22308-E7CE-4483-A2B7-62F7E82E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78E332-C33C-47EA-95B7-D30CA62F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F370E1-50DE-48B0-8C11-37320CA4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F46DFA-0D8E-4275-900B-47E349B9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E91C2-515B-44D9-8D14-4BD56B7B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AE16-A338-4CAC-8960-537DA40C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FB97F3-EBF1-4060-BC3F-E478AB96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F13576-1FAD-4709-AC48-434BF3C4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C1568-A084-40EA-B0B6-034EE02C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23024A-BB0D-4754-83C2-4AC927EB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7326C-8104-4D97-8845-D66E6921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86CCB-4BCB-49DD-A9F4-AF1AF217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52C1E-5820-4621-AB9F-FA0D6AEE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E7A0D7-361F-4D7D-ADF1-C48BE207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78FBD-EB65-4104-B9AC-59E97C05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8ECC4-B57A-456E-9808-6BFBE732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C13E-9E0F-4E38-BC84-F56D9FCC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45747C-C093-4091-A33A-7329B118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930D96-52FD-487C-8679-FC55FBAA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9BA11-386C-4511-9165-A0194864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8CE3F-4626-476C-8A7C-93689A01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5EEA8-2212-41E5-920B-B9578EAE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80A45C-82FC-4BD6-8632-603D15CD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FFFA0-0A17-4410-AA12-2F7F13E2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23140-5529-46AC-AF8B-CF613EAE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DF8E63-2EA5-4955-ABFF-296C699D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C7191-4044-401E-B7C7-949F60CD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7FF-C7A5-4584-9F39-9305EB80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1F9B-CDCC-4419-84B7-FE71EBE0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D30265-A312-4472-AE6D-F281E559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BF9BC8-DD45-4417-BF13-8AEFE9AC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A431FA-1B40-4AC6-8F39-6A26AE5E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AD5AF2-11C6-4A66-8AF0-6F50E337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6A858-7E21-4A07-9A43-788F9A18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DBBB13-D4AB-4087-9BC4-BDAB8A04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AEEFE-6A2B-4891-9F20-D5D7CDBF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E3CD51-8E33-45C8-AD82-7EDC46BF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9D956D-9508-4209-8557-EACBC35B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FB38AB-316D-4BA6-9726-B4518CCB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26C0-59A8-4F7F-B621-AC7C272A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42ABFD-0D14-49A3-B7C1-6992E4D4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D1284-3C91-43A3-AC3D-1CF85AED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2DA58E-1211-4419-9B74-CF9C8113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325980-40E1-4954-AF9C-9DA293C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734BB-7D43-41E6-B7D4-85772286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0995BE-7076-4A5E-BB37-24D82874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FEBC2-778A-433E-9250-D080536A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E748E-B4E7-4ACC-A746-9B2CF2960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3D930-76B7-4E2D-96AF-A3A25D54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867E2F-8089-44E0-820B-E88AAED2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E91B-A231-4690-AC1F-C0F876ED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3C047-FE62-4FC8-B0BC-0F4386F2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F82EA-44C8-4D02-9D6A-8763C0C6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D8AB2A-372F-44B2-96A6-C16D4E43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53E5C-3AC1-45CF-9C94-58D594E0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8E2243-9616-466D-B5C5-34691BB0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DA179-241D-44FD-903C-B2D790D3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BC22AA-1AC5-4B07-9BD3-12009304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3DC5E-62EE-4573-86AF-C278754C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4A1587-614F-4C49-86A3-D8B6C3FA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B630FA-87DC-4174-9154-8CE1CAE0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D007-8222-48F0-B4D8-1029ECA7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7E610B-A853-4F06-92B3-A5695AAF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BF980-2F95-4B2A-8470-EF27EC87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15D7CA-E494-4642-8D62-CA693234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8968DA-5ED0-454C-95C8-578E5501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37390-3457-480C-B2A1-C21D7454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1EF39-B3D7-45C9-A9E4-0E31F2B7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45351-C366-4560-A470-0B241926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B2199F-1ED4-4C6A-8D0D-A5C69034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8B1F63-496D-42A7-AFF5-1B60513D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1A07B-56B7-4BC1-A827-7A809EED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FD8D-5E05-4DC1-AF3F-6B585DE5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8433D3-125C-4154-A7AA-C439EF78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21DDBC-5ECB-43BF-86B3-0EA52F3C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2B1EDF-226A-4F54-88CA-14D575E8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9341D-CD0D-4CD6-999A-1B23047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D6F5AA-2757-49D0-9299-13E77584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E96895-0F03-409C-AB3E-94167B87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B7D115-A94B-4CAE-8526-60A8648A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96D264-D8F7-44CD-9D78-400038E3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68248F-FC65-4AFD-8945-DEE388F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5A829-4BB1-4269-B09C-40B29FB1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BC7A-0761-4E83-9EE0-81FAF4E5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B80E33-ACA7-431E-8C9C-F25C469D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2B44DB-D66F-4535-B115-A1A0517F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223DA-11B1-42BC-A671-7D4EBD1D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BC1093-E4AC-4375-9167-FAC2ABE9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BAFD75-DC12-4465-9675-8EC54141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9DEA4A-54E2-461B-9BBE-62F9C665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B61EAB-AAD0-47E9-9203-51BCDA23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5E827C-1BEF-439A-A886-FC2929CA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E9CB82-3612-4DFC-8EA3-662F4D84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05A630-D6F2-470A-9984-53CC3517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14368-16D4-45F5-8AA3-FE9D60CB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17D2C9-7409-468D-806B-88C6FEF6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051B8-ACB9-418C-81B8-23A9E97A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1A7AD3-5B40-4F93-9040-CD0B1543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156374-1445-400E-A83A-4CC840C3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500BDE-680F-410E-950A-D6C4C014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0BAF0F-1239-4D8E-88A8-4FEF12B1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EFC2D6-E8CA-49D4-8A0A-73CB08C2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489769-FC80-46CE-ACA0-36FA65D9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F43017-45C6-4BB9-B9DB-95FC3070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52539D-E78A-4AFA-A67B-B313C443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E05E-FCB5-4F91-A3C1-C2A4ACF3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476A41-1460-43C1-84CA-C85FD9CD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9B495B-7922-4922-B61C-A5816366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02814B-42CA-4EAC-B104-E28BD45E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2A24BC-D4DB-44E8-9950-86679BD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E72FF4-9287-4F02-857E-13489CA6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D33783-3F23-46F0-818D-A39548D9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18002B-8769-4088-AED4-B8090DC5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DDA75-08EA-4265-AEC9-F0370F48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2B75-A333-4AFB-BD1E-B14CC320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2DE-7A44-4CE4-AF71-0527EC0F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A9D5D-43B4-470A-BDAC-E9194401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3CF7-1AC4-4B9D-A52E-781BE003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2ABF-5E3B-4371-AF6E-F4C79111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9F67-DF7C-4C2D-8DE5-B201BEA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114A-AAF4-412C-B954-48BCB835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FF834-C5A6-4377-BF92-9A6A5CD4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0DA80-75F5-498A-8E5D-37B569A6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1173E-E9CA-4F8D-B5E2-0E86F41C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5C76-7D60-4BE6-BE8E-B840C15A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200B8-1CF3-47F7-A372-386A4521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D15-B084-4182-BD24-CA7F1CA1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1F351-7235-47F8-9CA3-6C051717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C14A-2775-47C1-A73E-3E18BEE5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FEA8-2B6A-4529-976C-26C54506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23428-A30F-4042-9132-1CDADF24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B339-0D1C-4C76-B808-F6FC0489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B9DD-3D43-4E7C-BC75-9A2E1B0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C9FF-86A4-4549-B368-B4F39643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D8428-E6EF-4C93-AE54-F4F49730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C1AA6-B94C-464F-A576-E7F1607F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5F1D3-5A02-4FA0-8D22-D02ECEDC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487-ACE6-4C0F-8DAA-697F548B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5243C-B591-47D9-AB18-3265D2E9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832FD-17A4-4AEC-84AA-48F330B6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CEB56-EE9F-48C4-9D10-160A2940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E1794-D94B-43EE-BAE0-32D23861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14C7-A6AF-45D1-8570-5C72EDE2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49C1F-09DE-4296-A6F7-30CBA1FB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DC9C2-6FFC-42EC-A39E-5492571F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2ED8-C75A-42B3-9021-A297389F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C1545-FA29-429D-B52E-EBC43125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C3374-FB60-4F67-8372-231CDA1F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B92-E3A6-4C05-BD14-47E0D8A3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6124D-4098-4A30-B640-EF66E38E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A2714-810B-4C4F-9915-01F12E47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D9DF2-8A5A-4139-BD8D-CB6441A4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3C363-75AF-4318-B4C0-6C874C3A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719B3-742C-419A-8E06-D26E471F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72E87-CF4D-4089-9F7B-A260B866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ED5B6-6E0C-43A0-B0CD-43D20A6F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AC225-4CE8-46C4-91D1-9C1E9C4E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6E460-1A92-4E9D-B562-6AD196E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53248-51AC-46A0-9D8F-E0F18172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1BA-3A6C-4CDD-8617-524C5E2D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F0D09-34D8-4047-A106-540BFDFC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EB93F-030D-4890-AB0A-CB152597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B5C40-2971-4269-A4D1-C9A3EE0E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88B28-AE8E-46EE-887F-8D3B53F7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7496F-1EEB-4103-A547-1436BD00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38C41-7120-4F55-A312-64FD56FE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CDDF3-A30F-46CF-93A7-03A11557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97FDD-2BDE-48DD-879B-D69971EF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4304E-7256-4421-B6AE-9DD861F3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39E98-AC61-4C8D-94B9-3F8E35DA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4A3-D178-4DC4-8F57-7C257B61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F5E5F-053B-4438-A03C-383596DC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A5B39-A846-422D-92A6-FFF13E2B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2884C-2C61-4AAC-8567-8E721E9A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8C9B5-D9EF-404F-977C-01914B6B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3039A-D290-43E8-88F0-8DBC07B6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8A73B-05F9-4417-ACAC-F6650469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4595D-994C-4FFF-B9C1-F2B85EE9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0F59F-BD70-4777-ADEF-1A376020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BA518-60CE-47EB-8A55-61BBFFB6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E3FEF-2D63-4B96-AE14-A479FC1A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CF9-DB61-4D5B-9083-E80DE38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2BE50-4696-4961-8D72-D61FF9AB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024D5-1AD4-40D4-BB8A-E3C4C891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090EA-267F-4E0F-AAEC-9E0CE4C3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950D8-9EB1-4AC6-A8E6-4265FE5C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0912-AE07-4A60-916A-75B95EB4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27635-68AA-4140-B405-E7C735E0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28DB-C7EB-46FA-B3BF-449ECE46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CD040-AB0F-464E-A5B9-921EB7D7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F3913-20CA-437F-8B2D-486E8171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6F43B-5B54-409A-8753-233785DC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CA24-3D50-4BC4-BE60-94DE24B9FC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D0EF-C21D-4B5B-AF42-11DCC1E2D8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AC07-C3CB-48C2-940F-3802750F37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7575-E522-49C2-9748-9E07777F1E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3B41-67C2-43B7-9C9D-F52F935845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B401-406F-4ED2-9F04-F71BCC382B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9E9B-0A42-4946-992C-2186D4F286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296A-8A38-4392-A550-8AAD9E23EF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63BA-BCB3-41E5-8040-2940CF9964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606A-5138-4EA5-AF1F-8CE3E53B57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02C2-0673-4BB8-BF15-8B42C81D8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EF2E-A973-4A93-919B-055D569D4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B06E-5A33-4186-9FEF-334F1A0AA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3A84-FF36-4B62-AE8B-858AD65E5C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269-8DB3-4D83-BF0E-2AD06EC9AB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7759-53DD-44F0-B0ED-6A1F79D9C7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4780-01D9-45B6-A4CD-9B3044316C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55F3-22EF-4912-A586-0D77827A82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86B8-DD5B-4CAE-B3FF-4D6250F625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C6FF-3D7A-434B-AD35-A7076D9280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7D5B-3A8D-456B-B6F0-9CAB32499A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B18A-2D70-487D-A0DF-3BB291A9FF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ECC5-2BB7-4D54-80F6-80FB0700F1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DCD4-2AA6-4F87-A242-483537AAAD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7302-0669-4A38-B822-CE9B1B98F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18FE-7CF9-4747-A733-3FB7D889A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59F7-16E3-46D9-8230-A130D81FFC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FFF7-D0E8-44AF-BCAF-1678AA794F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CF7D-7610-471A-814B-E6C85047D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B05A-031F-488E-9119-8BD195AB8A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4B96-64F8-476F-AF0C-4A1DD964EA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BC3B-0D7B-413B-AF39-7415C08E4E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D4F9-E3A8-4A47-8EFC-F005E2FA15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14FA-2A0F-4898-A742-C4571C5255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A62B-E211-4854-8352-913DC49F01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BA30-847C-4558-B5BA-2D9917EA83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96CE-0C70-4287-8B35-9886ADBC76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9C0A-9A8B-4693-B624-A6D0BC1463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A8D7-953B-4CF2-B535-E36E775403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A8FB-E163-4910-A810-D97311D405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1C85-DE64-42C3-9A38-8369425008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1B3A-E526-47EB-AB40-5F15AE3372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757600" y="2938320"/>
            <a:ext cx="36288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95120" y="1262160"/>
            <a:ext cx="8751960" cy="43336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266760" y="1930320"/>
            <a:ext cx="8820000" cy="4096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171360" y="2579760"/>
            <a:ext cx="8820360" cy="4096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144360" y="3213000"/>
            <a:ext cx="8820360" cy="4096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223920" y="3859200"/>
            <a:ext cx="8820000" cy="4096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128520" y="4508640"/>
            <a:ext cx="8820360" cy="4093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7"/>
          <a:stretch/>
        </p:blipFill>
        <p:spPr>
          <a:xfrm>
            <a:off x="101520" y="5141880"/>
            <a:ext cx="8820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162000" y="2100240"/>
            <a:ext cx="8820000" cy="26575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8642160" cy="4096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8642160" cy="4096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222120" y="3500280"/>
            <a:ext cx="8642520" cy="4096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5"/>
          <a:stretch/>
        </p:blipFill>
        <p:spPr>
          <a:xfrm>
            <a:off x="222120" y="4148280"/>
            <a:ext cx="864252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23920" y="1243080"/>
            <a:ext cx="86947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76040" y="406440"/>
            <a:ext cx="87901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04840" y="1019160"/>
            <a:ext cx="8732880" cy="48196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7524720" y="1614600"/>
            <a:ext cx="1368360" cy="4093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1763640" y="2881440"/>
            <a:ext cx="6121440" cy="4093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4"/>
          <a:stretch/>
        </p:blipFill>
        <p:spPr>
          <a:xfrm>
            <a:off x="5796000" y="3500280"/>
            <a:ext cx="2448000" cy="4096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5"/>
          <a:stretch/>
        </p:blipFill>
        <p:spPr>
          <a:xfrm>
            <a:off x="4067280" y="4135320"/>
            <a:ext cx="2233440" cy="4096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6"/>
          <a:stretch/>
        </p:blipFill>
        <p:spPr>
          <a:xfrm>
            <a:off x="8259840" y="4135320"/>
            <a:ext cx="826920" cy="4096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7"/>
          <a:stretch/>
        </p:blipFill>
        <p:spPr>
          <a:xfrm>
            <a:off x="324000" y="4781520"/>
            <a:ext cx="4608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214200" y="890640"/>
            <a:ext cx="8713800" cy="50767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3564000" y="981000"/>
            <a:ext cx="3095640" cy="409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3780000" y="1628640"/>
            <a:ext cx="1728720" cy="4096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3708360" y="2233440"/>
            <a:ext cx="5040360" cy="4096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5"/>
          <a:stretch/>
        </p:blipFill>
        <p:spPr>
          <a:xfrm>
            <a:off x="3780000" y="4149720"/>
            <a:ext cx="1008000" cy="4096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6"/>
          <a:stretch/>
        </p:blipFill>
        <p:spPr>
          <a:xfrm>
            <a:off x="2411280" y="4797360"/>
            <a:ext cx="2016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185760" y="711360"/>
            <a:ext cx="8771040" cy="315252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2" descr=""/>
          <p:cNvPicPr/>
          <p:nvPr/>
        </p:nvPicPr>
        <p:blipFill>
          <a:blip r:embed="rId2"/>
          <a:stretch/>
        </p:blipFill>
        <p:spPr>
          <a:xfrm>
            <a:off x="271440" y="4114800"/>
            <a:ext cx="86853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166680" y="966960"/>
            <a:ext cx="8809200" cy="49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333360" y="1643040"/>
            <a:ext cx="8477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5723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6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